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F3B17CD-BBCE-4A76-A044-C4E9DD1C7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D0F59A-ED77-48B3-81F5-482DF66CB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BBD77AD-95FB-44A0-AF5E-002E22E85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E03A98-DAC0-49F6-9262-8A49AAC73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AD9C52-2996-43E0-B8D6-8E98A2A07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F8B505C-9681-4F5A-AC33-4C848D6C6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30A388-25D3-4678-B9E5-98A5AEBD2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93B5E8-5725-4128-9D14-D6BDC4CB9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499300-685B-46F3-ABC6-89AFF075F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8E2C46-907A-40C8-80F6-7D7796A44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ld have used positive coordinates if I see this 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2EFFFAF-8850-4BF3-B961-62D37615D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4103EA2-E3CC-46D6-A974-752BA7D75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8E8BD0-8761-4B5C-AD6F-D5D579829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5DB78E-E2DC-483B-BE19-140F9A270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A2AE8A8-FE22-41F9-A922-2EA2AC195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D5544E-C5D3-4313-8BE1-F35A53A09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FA8F32-264D-4A86-BEE5-7C0B1A32C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986268D-146B-4FD4-B6F0-EF26C334F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CE7806-3724-4BE4-BAA1-323729E0D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D273AC-9516-43D5-9A7B-516C3524B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F2AC4A-3525-4DDC-A52A-09C0B0652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how different bu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6E4ED6-F68B-457F-BEE5-8F7368B9C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6187AB-B6F1-499B-958B-D1136138A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1330AA-154C-48DF-B7E2-915CA9BDE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E4C3CCC-A9B1-4561-9596-C8E6F1A85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 BLM 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BEA6FA-6138-4C3F-AACD-09381A314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15F205-3116-41C3-9434-0D45650CC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F75FCF-A5F3-44C5-813E-A43CA78D8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CCCBE83-D5E7-46F9-BCB9-80D945439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75BCD5-09C6-44FF-B7CB-EB8E17C9C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3174AE-7E8E-4449-AE19-267B50CB3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465BE6-75E2-4407-A82F-28CD7A152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9DC23A-B448-4726-A3A2-5147F94B0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BD55771-51E8-412B-AC16-3E2E43772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B77C16-D8D1-42AD-9780-6E69F60CE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F976-D465-4019-9B64-1400D8E9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59D-20E3-431C-A924-B3F988ED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91F-3F10-42C6-9E27-BEAAF728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DF5-82A1-4B7B-8DF2-659C7BBC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6CE9-28F4-4F95-AAC3-B7C052A8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CB7C-96CE-4B56-825D-55FA68DB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D88A-58C3-4BF2-AAD3-8D42FB62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BD71-3002-4234-8E1D-B6C4E2BB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CC09-1150-4335-BAC3-20005DFE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B5A6-20B2-415C-B58A-4E0BFD86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456A-E351-4AE5-A475-146A5E99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E8C-A1DE-4CC8-A5CF-A23FED4E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9DEC-B13F-495E-AB3D-75C0FD5B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6E9B-43B2-4C6F-A487-82ECA641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2A05-D812-4611-A9E5-2863D8A9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45AC-0E07-4AD7-BF11-DDE12C26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58BC-E610-4026-8196-1B20FEDD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ECD-7900-4934-9FE5-96A21F0B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72D-F465-4CC8-A7CD-49A8D5D1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33D-568E-4E9E-B530-D1B0B90D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C31-C71F-4CA7-80A5-AB9D147B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CC7-17E9-4F85-8C7E-4DCA93C7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4BA-F331-4D79-B52E-214D3D97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7B9-4CFF-4BBB-B982-B01404E1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FD96-0CD2-4BF7-A781-DBED714D6C5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AINS_Globe_70smws"/>
          <p:cNvPicPr/>
          <p:nvPr/>
        </p:nvPicPr>
        <p:blipFill>
          <a:blip r:embed="rId2"/>
          <a:stretch/>
        </p:blipFill>
        <p:spPr>
          <a:xfrm>
            <a:off x="0" y="1066680"/>
            <a:ext cx="2637000" cy="495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Untitled-1"/>
          <p:cNvPicPr/>
          <p:nvPr/>
        </p:nvPicPr>
        <p:blipFill>
          <a:blip r:embed="rId3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EB1E-ADBB-41CB-81D8-7036610D069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69b"/>
                </a:solidFill>
                <a:latin typeface="Book Antiqua"/>
              </a:rPr>
              <a:t>         </a:t>
            </a:r>
            <a:r>
              <a:rPr b="1" lang="en-US" sz="4800" spc="-1" strike="noStrike">
                <a:solidFill>
                  <a:srgbClr val="0d469b"/>
                </a:solidFill>
                <a:latin typeface="Arial Unicode MS"/>
              </a:rPr>
              <a:t>Plenary 3</a:t>
            </a:r>
            <a:r>
              <a:rPr b="1" lang="en-US" sz="4800" spc="-1" strike="noStrike">
                <a:solidFill>
                  <a:srgbClr val="0d469b"/>
                </a:solidFill>
                <a:latin typeface="Book Antiqu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73000" y="213336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d469b"/>
                </a:solidFill>
                <a:latin typeface="Arial Unicode MS"/>
              </a:rPr>
              <a:t>Summer Institute</a:t>
            </a:r>
            <a:br>
              <a:rPr sz="4800"/>
            </a:br>
            <a:r>
              <a:rPr b="0" lang="en-CA" sz="4800" spc="-1" strike="noStrike">
                <a:solidFill>
                  <a:srgbClr val="0d469b"/>
                </a:solidFill>
                <a:latin typeface="Arial Unicode MS"/>
              </a:rPr>
              <a:t>2009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73000" y="39621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3352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In parallel tasks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57200" y="213372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 were looking at the same instructional goal, with the “problem”  (obstacle) removed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7158-B042-4086-93D0-69813E611B9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Recall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57200" y="1523880"/>
            <a:ext cx="64771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money problem about Brandon and Alexis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 discussed difficulties students might hav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704E-0C3E-45D1-B7C2-8D0DB44C0CA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095880" y="1600200"/>
            <a:ext cx="304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808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The problem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1752480"/>
            <a:ext cx="83059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B8AA-DB44-43EA-A775-E894104D340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8088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e could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09480" y="1523880"/>
            <a:ext cx="77979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vide alternate versions of the problem to make the problem more accessible without sacrificing “too much”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ight they b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FCB1-7472-495D-BF82-553B614FC8C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808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A different example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0880" y="1676520"/>
            <a:ext cx="81028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ou pose this: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lope of a line is -2/3. Tell us the coordinates of two points on the lin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2BB2-EC05-4151-B130-1BF88653AE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808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You could anticipate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1600200"/>
            <a:ext cx="82296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 students start with a point, go 2 to the right and 3 down OR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7ADC-FFFC-452E-B2C8-5FC1D401F71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57200" y="340056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 students start with a point, go 3 to the left and 2 down OR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3520" y="46483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udents write y =-2/3 x + 8 and substitute two different values for x  but have trouble with the arithmetic OR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8088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You could anticipate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1676520"/>
            <a:ext cx="80265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at negative slopes cause trouble and recognize that some students need more time before they are ready for th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EA9D-3050-4E55-B5A6-05BCC18F44D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8088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Parallel tas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876920" y="1600200"/>
            <a:ext cx="3733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line of slope 2/3 goes through (-4,-1). What is the equa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2CB2-6063-4462-82DA-ACF4486D49D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Text Box 3" descr=""/>
          <p:cNvPicPr/>
          <p:nvPr/>
        </p:nvPicPr>
        <p:blipFill>
          <a:blip r:embed="rId1"/>
          <a:stretch/>
        </p:blipFill>
        <p:spPr>
          <a:xfrm>
            <a:off x="755640" y="1670040"/>
            <a:ext cx="3743280" cy="418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1479-FCCE-4242-A048-472E05D936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62120" y="2149560"/>
            <a:ext cx="77724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o you know which way your line slants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7542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E313-A86D-4BE7-9A79-13C1463BC5A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762120" y="2149560"/>
            <a:ext cx="7772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uld (-4, 3) be on your line? How do you know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uld (-3, 0) be on your line? How do you know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5720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Differentiating instr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 will focus in this and our next few sessions on ways to differentiate instruction (not just differentiate practice)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39F4-674A-4042-8524-B02506ECCA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659E-5E96-4AE8-B660-4B5DBAE15FF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762120" y="2149560"/>
            <a:ext cx="77724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do you need to know to write the equa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can you get that informa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45720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49A0-DFA7-4ADB-BE49-B77C4A54663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762120" y="2149560"/>
            <a:ext cx="7772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is your equa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can you be sure you’re righ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380880" y="8380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9072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Typical ques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30F2-950D-4CB3-AEF0-4B6C76A77E5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2149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sa : $1.15 in quarters and nick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38080" y="3429000"/>
            <a:ext cx="8305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my : $0.80 with half the quarters and twice the nick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many of each coin does Lisa hav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-45720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Parallel tas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98E3-141E-4A0C-94BB-423D5C06A9C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533520" y="1828800"/>
            <a:ext cx="8001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tion 1:  Use equations to model the problem and then solve i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tion 2: Solve the problem using only number thinking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C104-863C-4CA9-BB7A-BD700D8E3F5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04920" y="1676520"/>
            <a:ext cx="86868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d you need to know how much each coin was worth or just the relationship between them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id you know that Amy had an even number of nickel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0492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96FC-E700-4B55-A203-8813A17F6DB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62120" y="175248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uld you be sure that Amy had an even number of quarters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o you know that each girl had fewer than 5 quarter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45720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0E6E-8914-490C-99E9-1ADED1CCEE1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" y="214956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id you solve the problem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o you know your solution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5228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ne more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3270-E032-46F6-96D0-41ABCE29BD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57200" y="1600200"/>
            <a:ext cx="3657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add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o 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+8x+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029200" y="1600200"/>
            <a:ext cx="3809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multiply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o 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+8x+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0492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75E5-2917-41B3-BEF2-6A6F85C89E5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algebra tiles show 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+8x+2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s there any other way to model that polynomial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5311-FFBD-4158-8EAC-B537035D89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28600" y="1523880"/>
            <a:ext cx="891540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id you arrange your tile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id you figure out how to star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s there any other way you could have arranged the tile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0948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DI requir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600200"/>
            <a:ext cx="90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focus on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big ideas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to have something big enough to differentiat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29AC-8253-40F5-A5AA-3C8E07ADBCA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34290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prior assessment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to know the need to and direction to differentiat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50920" y="4727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hoic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to actually differentiat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-30492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Your tu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DCBF-176C-4C51-B68D-3DFCF8D90BA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762120" y="17524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 your group, choose one of the suggested sets of parallel tasks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velop some common consolidating question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-30492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Sh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7190-CAEB-49AE-8E6C-11F5961C1FE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0880" y="1523880"/>
            <a:ext cx="80773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o to the one of the four corners with people who did your task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are your questions with a few people in your corne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-53352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nsoli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1B25-B5EE-414F-A5D6-FC1EB319F5C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762120" y="175248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reate a “flow chart” to show the steps you would take to create parallel tasks. Draw on chart pape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-68580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nsoli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ACAB-EF0F-485D-9389-948EE27C2B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762120" y="1752480"/>
            <a:ext cx="7696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uss at your tabl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of the steps would be hardest to do alon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nsoli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BE84-B93C-43E2-8D19-5B69F023BE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62120" y="1752480"/>
            <a:ext cx="7696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ost your flowchar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rticipate in a gallery walk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094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we do now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3520" y="16765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conventional approach to differentiating is to scaffold – presenting problems in bit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aybe this is not the only or the best way, to differentiat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411D-28FA-4885-86B3-85BAFC64A6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33520" y="8380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e could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33520" y="2057400"/>
            <a:ext cx="82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ink about what difficulties students have and actually plan to address these difficultie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BF9E-D667-484E-9FB9-5D8B727F78A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0492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Our focus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04920" y="1828800"/>
            <a:ext cx="9524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ll be on two strategies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arallel tas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04F7-720B-4C34-8990-0ED12D8E24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57200" y="838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e’ve used these befor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member the 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plenary’s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pen question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bout creating a pattern with a particular 3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erm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3B9D-46D4-4C6E-A5BC-82388E799E2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533520" y="1828800"/>
            <a:ext cx="8229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member the 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plenary’s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parallel task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re you matched questions to big ideas but different groups used different question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D737-2F33-4AC6-A9E0-C406407E302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57200" y="838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e’ve used these befor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68580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Anticipated probl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09480" y="1828800"/>
            <a:ext cx="815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y knowing that some grade 7-9 teachers might be uncomfortable with grade 11 or 12 content, we differentiated the task by creating that parallel task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AC06-1E0B-4F27-968D-18B2A872119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4:10:23Z</dcterms:created>
  <dc:creator>Peel District School Board</dc:creator>
  <dc:description/>
  <dc:language>en-US</dc:language>
  <cp:lastModifiedBy>Rod_Anne_Yeager</cp:lastModifiedBy>
  <dcterms:modified xsi:type="dcterms:W3CDTF">2009-08-20T18:00:34Z</dcterms:modified>
  <cp:revision>28</cp:revision>
  <dc:subject/>
  <dc:title>Coaching for Math GAINS Professional Learning</dc:title>
</cp:coreProperties>
</file>